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97464"/>
        <c:axId val="42653854"/>
      </c:barChart>
      <c:catAx>
        <c:axId val="47897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3854"/>
        <c:crosses val="autoZero"/>
        <c:auto val="1"/>
        <c:lblAlgn val="ctr"/>
        <c:lblOffset val="100"/>
        <c:noMultiLvlLbl val="0"/>
      </c:catAx>
      <c:valAx>
        <c:axId val="42653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7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CE5-EA28-4099-84FB-6B0EBD2F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F80-7556-4CA9-A331-91BD586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591-2EA0-4736-B800-96F0A7D9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0DF-462B-4D8E-8B1F-FC807F19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B12-5B22-4EA4-9F45-492B253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9AB-536A-4475-B695-52792DF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FDE-1873-4296-9E41-BAE12B5A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0C8-1BC5-4214-9EBD-AF13252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EA9-EAB4-4D19-ACCE-6DE5524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73E-CDEA-4421-9B11-EAE8A78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02A-ADBE-494E-8B3F-FBE31731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F01-F613-4CA9-8080-921B125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66AC8-974E-4B36-A4EF-0D1009EB8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