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884727"/>
        <c:axId val="33195966"/>
      </c:barChart>
      <c:catAx>
        <c:axId val="998847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195966"/>
        <c:crosses val="autoZero"/>
        <c:auto val="1"/>
        <c:lblAlgn val="ctr"/>
        <c:lblOffset val="100"/>
        <c:noMultiLvlLbl val="0"/>
      </c:catAx>
      <c:valAx>
        <c:axId val="331959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8847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DD8B-AF5F-4319-8BC6-379F0A9AA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76DB-36E0-481B-92EB-7FADFF259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9038-B0CB-42B0-A737-9CC1C69DB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E8C9-3DEF-435C-99C1-155BA65AC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D894-49F5-40BD-A3B2-B0262D550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613A-675C-44B8-A4DF-70F69686C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C7FE-D16C-467B-B5DD-921A9117E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3A44-1AA1-48FF-895D-F1BB86A8A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5E53-A743-473B-B91E-DED5B796C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7DB0-E763-4A47-91F0-B4512E87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F564-D545-4CA4-A75F-5FBB0C4CA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2ACD-92D4-4E0A-9CF4-9357D8D1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0985E0-5959-4A5C-9755-0550C082B39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