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1324"/>
        <c:axId val="23079600"/>
      </c:barChart>
      <c:catAx>
        <c:axId val="30113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79600"/>
        <c:crosses val="autoZero"/>
        <c:auto val="1"/>
        <c:lblAlgn val="ctr"/>
        <c:lblOffset val="100"/>
        <c:noMultiLvlLbl val="0"/>
      </c:catAx>
      <c:valAx>
        <c:axId val="230796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13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3DDD-AE96-4C69-848D-E249E84D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E5F-E9F4-446E-A466-BCF4ED9B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60C-FA0B-4AF9-B39E-FF1EA314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622-1C55-4813-AA97-46612EF4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5A3-97EF-4621-A5A4-6025C9FA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067-4C31-4EAA-B509-22AC7E65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495-29CB-4E34-920C-268C837B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427-2F4C-4F7F-9846-541D2481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A718-EE5E-4CEB-A427-E82A70D7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9D6-2FBC-43FA-8148-63079B00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931-801D-4E5C-8921-98286D33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F0D-FA5C-4CB4-8659-6F841A5E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5CFE2-92FC-4B6F-B74E-BB9C1A25C8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