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24484"/>
        <c:axId val="48318320"/>
      </c:barChart>
      <c:catAx>
        <c:axId val="66224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18320"/>
        <c:crosses val="autoZero"/>
        <c:auto val="1"/>
        <c:lblAlgn val="ctr"/>
        <c:lblOffset val="100"/>
        <c:noMultiLvlLbl val="0"/>
      </c:catAx>
      <c:valAx>
        <c:axId val="48318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24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C6E-5651-4E51-A229-2AF3E348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57D-CE52-464F-A87D-C43EED91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D8C-85F9-4660-A2EB-6C88763B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C39-30DC-4724-BD27-3543E356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037-7752-443D-8DA1-FB29E997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B7E-70DE-4D13-8571-BA25D558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05D-3196-4E90-9A02-976F2A15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C8F-8F57-4384-BE9A-69DA3501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683-677D-472A-B5A7-ADA3E89B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F84-3D0B-465B-A08A-7E9E755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50E-14AC-42BA-A227-12A4C53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EA5-5CD9-47B9-8801-80AE3FFF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E56D4-3973-4903-9D0A-976D2ACF09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